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5ED8-11D6-4665-9B5A-9C41A383B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E8BC-B936-4C46-9185-65397DE73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31D3-2435-40E9-98DC-CBAC38168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DFF7-25DB-4DFF-824D-77CA84011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39BA-CFD5-4505-A953-AED91A440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E84B-7CA8-4564-94EF-31E58E9B5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45DE-CD3C-44C3-91BA-447504025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4A64-BE32-489B-8640-6E95A5049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D10C-A502-47FA-8291-5503207DE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9B10-4385-4EF1-ADB6-9CD72A0E1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146E-F8A7-4FF7-A8A5-C3027F646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3D2A-9FD9-43D8-A244-C9576F3B8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386B948-F6B9-4A8D-92AC-D87F7B5CC53D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Davidson_13e_Figure 4.1.jpg"/>
          <p:cNvPicPr/>
          <p:nvPr/>
        </p:nvPicPr>
        <p:blipFill>
          <a:blip r:embed="rId1"/>
          <a:stretch/>
        </p:blipFill>
        <p:spPr>
          <a:xfrm>
            <a:off x="2252520" y="0"/>
            <a:ext cx="463680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Davidson_13e_Figure 4.2.jpg"/>
          <p:cNvPicPr/>
          <p:nvPr/>
        </p:nvPicPr>
        <p:blipFill>
          <a:blip r:embed="rId1"/>
          <a:stretch/>
        </p:blipFill>
        <p:spPr>
          <a:xfrm>
            <a:off x="160200" y="0"/>
            <a:ext cx="882288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Davidson_13e_Figure 4.3.jpg"/>
          <p:cNvPicPr/>
          <p:nvPr/>
        </p:nvPicPr>
        <p:blipFill>
          <a:blip r:embed="rId1"/>
          <a:stretch/>
        </p:blipFill>
        <p:spPr>
          <a:xfrm>
            <a:off x="2268360" y="0"/>
            <a:ext cx="460656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Davidson_13e_Table 4.1.jpg"/>
          <p:cNvPicPr/>
          <p:nvPr/>
        </p:nvPicPr>
        <p:blipFill>
          <a:blip r:embed="rId1"/>
          <a:stretch/>
        </p:blipFill>
        <p:spPr>
          <a:xfrm>
            <a:off x="979560" y="0"/>
            <a:ext cx="718452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Davidson_13e_Table 4.2.jpg"/>
          <p:cNvPicPr/>
          <p:nvPr/>
        </p:nvPicPr>
        <p:blipFill>
          <a:blip r:embed="rId1"/>
          <a:stretch/>
        </p:blipFill>
        <p:spPr>
          <a:xfrm>
            <a:off x="2000160" y="0"/>
            <a:ext cx="514152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Davidson_13e_Table 4.3.jpg"/>
          <p:cNvPicPr/>
          <p:nvPr/>
        </p:nvPicPr>
        <p:blipFill>
          <a:blip r:embed="rId1"/>
          <a:stretch/>
        </p:blipFill>
        <p:spPr>
          <a:xfrm>
            <a:off x="2198520" y="0"/>
            <a:ext cx="47462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Davidson_13e_Table 4.4.jpg"/>
          <p:cNvPicPr/>
          <p:nvPr/>
        </p:nvPicPr>
        <p:blipFill>
          <a:blip r:embed="rId1"/>
          <a:stretch/>
        </p:blipFill>
        <p:spPr>
          <a:xfrm>
            <a:off x="2954160" y="0"/>
            <a:ext cx="323496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  <Words>0</Words>
  <Paragraphs>0</Paragraphs>
  <Company>C &amp; M Digitals (P) Ltd.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4T09:28:16Z</dcterms:created>
  <dc:creator>Administrator</dc:creator>
  <dc:description/>
  <dc:language>en-US</dc:language>
  <cp:lastModifiedBy>Administrator</cp:lastModifiedBy>
  <dcterms:modified xsi:type="dcterms:W3CDTF">2012-04-04T09:29:30Z</dcterms:modified>
  <cp:revision>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7</vt:r8>
  </property>
</Properties>
</file>